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6AB-68FC-47BE-A7F8-B26B8CE5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C99-C7F5-49ED-8031-AE79958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919-33C5-4E89-8B02-3C7BC4AB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821-7832-4480-AA22-8B120021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C71-4175-4AB6-9575-85EB1648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A10-0637-4187-B272-FF130D38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0A8-4D0F-4FF0-B5C5-5761AB37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ECA-7C92-4227-ACEB-6556EB0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1B5-F565-45C2-98CC-C6AC63EE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1E6-A9CE-460F-A5EC-5D7BCA4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25F-777C-493A-91AC-59F2267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536-0847-4B67-A746-C2574B4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612360" indent="-61236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663480" indent="-3571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918720" indent="-3060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173960" indent="-254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1480320" indent="-25488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1480320" indent="-25488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1480320" indent="-25488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F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1BC2-70CB-43F0-9918-7F664CA3D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Heavy"/>
              </a:rPr>
              <a:t>Who has better lung Capacity? Athletes vs. Non Athletes….Hmmmm…</a:t>
            </a:r>
            <a:endParaRPr b="0" lang="en-US" sz="54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By.Cristina Silva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Who has better lung Capacity? Athletes or non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I think that athletes will have better lungs just because they do sports which helps them with running and stuff like that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3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3 non athlete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Pencil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top watch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first- I got all my materials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Second- get people 2 by 2 and test them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  <a:p>
            <a:pPr marL="813600" indent="-8136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Third- Once they’re done I write down their scores and send them back to class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Resul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It turned out I was right that athletes would have better lung capacity than non. 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Conclusion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-8503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y hypothesis was right kind of…because some athletes had some pretty long times but yet some non athletes had a pretty long time also.</a:t>
            </a:r>
            <a:endParaRPr b="1" lang="en-US" sz="48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hank you to..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Erin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Steven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hrys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Shane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Veronica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Tim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-914400">
              <a:lnSpc>
                <a:spcPct val="80000"/>
              </a:lnSpc>
              <a:spcBef>
                <a:spcPts val="901"/>
              </a:spcBef>
              <a:buSzPct val="10967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aleb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  <a:p>
            <a:pPr marL="91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Heavy"/>
              </a:rPr>
              <a:t>Acknowledgements</a:t>
            </a:r>
            <a:endParaRPr b="0" lang="en-US" sz="6000" spc="-1" strike="noStrike">
              <a:solidFill>
                <a:srgbClr val="ffffff"/>
              </a:solidFill>
              <a:latin typeface="Franklin Gothic Heavy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3520" y="15238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06T14:34:44Z</dcterms:modified>
  <cp:revision>5</cp:revision>
  <dc:subject/>
  <dc:title>Title</dc:title>
</cp:coreProperties>
</file>